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63E4-88AE-4F7C-A955-1EBD69895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D62-2B07-454C-A25D-12449CDF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0694-33EC-465B-9B53-549893FC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C31B-B729-4279-88AA-06955F6E5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841E8-558E-4C8E-B01C-5998F7EE3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CE659-EFC2-4FA5-990D-BBB71E1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15BA-05C5-4487-BAB9-043275F8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2687-9FE7-4806-BD48-ED5476EB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DB0B-D860-44A0-96D8-4BEDB7C8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7560-59B1-47EF-9B00-12069D47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228B-860B-424E-A47F-2C6BE925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203B-341D-4D1C-AB2A-1B2F3F0C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7CA4-F69B-4B63-8110-0660283A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D1E7-EAE8-4DD0-8636-9C7E1A23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EF05B-BA9C-4730-8E20-46735B87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61EAA-C5F4-4559-A895-349123B7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84027-92FD-4AFC-AE78-72A005E8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EB60-BEEE-4A01-8474-F5986C2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A65B-F531-4802-8D9F-3B3B664D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5DF8-1B0E-40FD-A794-99BA0AC61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645-7308-4A79-A2B6-3BDC068D8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DC51-DDCA-4DAE-B272-AA608CED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4454-6085-4F68-8B8F-AEC1FA59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9933-1B5A-47BC-8655-94F3871D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4F9A-FC8A-4D78-BAD4-8A80864BF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92FB-789B-4A42-85FE-317D187E59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57040" y="2971800"/>
            <a:ext cx="883908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AT THE TE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Grad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3552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 Key Wo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LECTION - stories or pass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RRATOR - the person telling the 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AKER - the person speaking in po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LIKELY - what will probably happ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ST SIMILAR - most alik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BTITLES/SUBHEADINGS - titles for different sections in the selection, under the main tit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FFECT OF - impression of, cause of, the influence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URPOSE STATEMENT - introduction at top of pag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ELY - almost or just ab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BABLY - likely to happen based on evidence in the sto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ZAS - verses in poetr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TALICS - special slanted print that draws our atten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ENTHESES - special punctuation marks ( ) used to separate or notate tex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ALOGY - comparing of relationshi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NE - the feeling the author created in the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IALOGUE - the parts that characters speak in a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LLUSTRATIONS - the pictures or photos in a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ENRE - the type of writing a selection i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ck out the key words by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IMMING: Read pieces of the text: dates, names, and places; review graphs, tables, and charts. A quick check of tex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NING: Find a particular answer. Scanning involves moving your eyes quickly down the page seeking specific words and phrases to help you answer a ques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a highlighter or underline when you read to save time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questions fir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entire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here are several questions about a reading passage or chart, look for </a:t>
            </a:r>
            <a:r>
              <a:rPr b="0" lang="en-US" sz="3600" spc="-1" strike="noStrike">
                <a:solidFill>
                  <a:srgbClr val="cc0066"/>
                </a:solidFill>
                <a:latin typeface="Arial"/>
              </a:rPr>
              <a:t>clu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ther questions that will help you with those items about which you are uns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th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using scratch paper on a math test, double check to make sure that you have copied the problem correctly from the test bookle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in doubt, start from scr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res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ke out your hands, neck arms and sit back in your ch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ep bre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vince yourself you are rela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efore the test…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your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any last minute concerns with your parents and teac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,SLEEP,SLEE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800600" y="1066680"/>
            <a:ext cx="2857680" cy="18957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715000" y="3886200"/>
            <a:ext cx="236232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ning of Testing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your day with a good breakfa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 banana gives an instant, sustained and substantial boost of energy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eathe! Oxygen to your brain will help you thin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Positive! “I can do this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nk of what you will do to relax when you get home from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NO POINT IN WORRY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es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directions carefully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question and </a:t>
            </a:r>
            <a:r>
              <a:rPr b="0" i="1" lang="en-US" sz="4800" spc="-1" strike="noStrike">
                <a:solidFill>
                  <a:srgbClr val="cc0066"/>
                </a:solidFill>
                <a:latin typeface="Arial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nswer choices before marking any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ke sure you understand what the question is ask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 sure you are responding to the question that is being ask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st Pa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n’t spend too much time on any one question. Do your best and then move on. ½ in ½ ru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swer the easiest questions fir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s stress, increases conf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ark those that you skip on the test book and go back to those questions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ok for the WRONG answer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 have been through all of the answer choice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go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liminate choices that you know are incorrec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can eliminate two wrong answers, your chance of choosing the right answer is greate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Choi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 not change your answers unless you are very uncertain about your first answer choi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y to answer every question. Make the most intelligent guess you c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't guess blindly, but if you have time to think about the best answer choice, make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oose the BEST OVERALL answer when more than one choice seems correct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ishing up…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you finish early, check to make sure you have answered all quest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es, that means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real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 back and check your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key wor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4000" spc="-1" strike="noStrike">
                <a:solidFill>
                  <a:srgbClr val="cc0066"/>
                </a:solidFill>
                <a:latin typeface="Arial"/>
              </a:rPr>
              <a:t>phras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in the question that will help you choose the correct ans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07T01:18:55Z</dcterms:created>
  <dc:creator/>
  <dc:description/>
  <cp:keywords/>
  <dc:language>en-US</dc:language>
  <cp:lastModifiedBy> John Doe</cp:lastModifiedBy>
  <cp:lastPrinted>2011-05-16T11:59:02Z</cp:lastPrinted>
  <dcterms:modified xsi:type="dcterms:W3CDTF">2011-05-16T12:29:40Z</dcterms:modified>
  <cp:revision>48</cp:revision>
  <dc:subject/>
  <dc:title> BEAT THE TE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3</vt:lpwstr>
  </property>
</Properties>
</file>